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21.png" ContentType="image/png"/>
  <Override PartName="/ppt/media/image4.png" ContentType="image/png"/>
  <Override PartName="/ppt/media/image13.jpeg" ContentType="image/jpe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6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14F0-DF40-442F-AC08-1E21A7C33B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лияние радиоактивного излучения на живые организ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выполн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8-1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гранян Ан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55AE-F577-4514-8734-81431EEB95B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cfcff"/>
                </a:solidFill>
                <a:latin typeface="Arial"/>
              </a:rPr>
              <a:t>Ученые установили, что красное вино может защищать организм человека от воздействия ради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исследованиям, которые провела группа американских ученых, природный антиоксидант ресвератрол, который содержится в красном вине и фруктах, способен препятствовать некоторым повреждениям, которые вызывает радиационное излу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опытов, проведенных на лабораторных мышах, выяснилось, что организм мышей, которые получили некоторую дозу ресвератрола, способен оказывать сопротивление действию радиационных лучей. В ближайшее время ученые займутся исследованием действия антиоксиданта на организм человек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6E3B-9282-45F9-9315-BFCCFE04925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5E77-0AF5-4B99-BD0A-F1DD37DBB4C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О ради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диоактивность - отнюдь не новое явление; новизна состоит лишь в том, как люди пытались ее использовать. И радиоактивность, и сопутствующие ей ионизирующие излучения существовали на Земле задолго до зарождения на ней жизни и присутствовали в космосе до возникновения самой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5625-119D-4427-885C-E6E0FB7C6FC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Космические изл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ясь в основном в почве, особенно в горных породах, естественные радиоизотопы обусловливают природный естественный фон радиоактивности, который не оказывает на человека вредного действ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падании в атмосферу искусственных радиоизотопов в виде радиоактивных отходов атомных реакторов, промышленных предприятий и учреждений, работающих с радиоактивными веществами, а также в результате испытаний атомного оружия природный радиоактивный фон может повыситься. Образующееся при взрывах радиоактивное облако, распространяясь вокруг Земного шара, будет служить на своем пути источником радиоактивного загрязнения воздуха, водоемов и почвы за счет выпадения радиоактивных осадков. Эти осадки, способны накапливаться в растениях, рыбах, поступать в молоко животных и стать потенциально опасными для человека при употреблении пищевых проду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9C46-92F4-4EE0-A98A-7BCA2D0D1B7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Выбросы и сбросы вредных веществ при эксплуатации АС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выбросы делят на газовые и аэрозольные, выбрасываемые в атмосферу через трубу, и жидкие сбросы, в которых вредные примеси присутствуют в виде растворов или мелкодисперсных смесей, попадающие в водоемы. Включаясь в многообразные движения атмосферы, поверхностных и подземных потоков, радиоактивные и токсические вещества распространяются в окружающей среде, попадают в растения, в организмы животных и человека. На рисунке показаны воздушные, поверхностные и подземные пути миграции вредных веществ в окружающей сре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764F-353C-467B-A59E-2BDA8F13CBA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Радиоа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это способность некоторых атомных ядер самопроизвольно превращаться в другие ядра, испуская при этом различные частицы: Всякий самопроизвольный радиоактивный распад экзотермичен, то есть происходит с выделением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B1F5-BFAC-4050-A018-72577681567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e1f3"/>
                </a:solidFill>
                <a:latin typeface="Calibri"/>
              </a:rPr>
              <a:t>Чернобыльская трагед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6 апреля 1986 года жизнь миллионов белорусов, украинцев и россиян круто изменилась. Эта дата разделила нашу историю на "до" и "после". 22 года назад на четвертом блоке Чернобыльской АЭС произошла крупнейшая ядерная авария в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9F4A-CA92-41E9-8CE1-6C0E54C3CAB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400" spc="-1" strike="noStrike">
                <a:solidFill>
                  <a:srgbClr val="b3e1f3"/>
                </a:solidFill>
                <a:latin typeface="Verdana"/>
              </a:rPr>
              <a:t>Какие продукты представляют наибольшую опасность с точки зрения радиаци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ми причинами попадания радионуклидов в пищу сегодня являются высокое содержание радионуклидов в грибах, ягодах, рыбе и дичи, а также радиоактивное загрязнение травы и сена, которыми питаются коровы, дающие молоко. Загрязнение мяса и молока можно сократить, используя чистые корма и кормовые добавки, а также ограничив время выпаса скота. Для продуктов питания из государственного сектора, а также продукции, продаваемой на рынках, действуют нормы максимального содержания радионуклид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66D0-5768-4780-BA16-B2B1300F192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Интересные ф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во, как и более крепкие алкогольные напитки, способно защитить организм от радиоактивного излучения. Это экспериментально доказали японские ученые из Института лучевой медицины. Результаты их исследований опубликованы в пятницу в токийской печат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наружено, что одной полулитровой бутылки светлого пива достаточно, чтобы на 34% снизить число хромосомных поврежденный, которые возникают после воздействия рентгеновских лучей или тяжелых частиц, например, ионов водорода, сообщает ИТАР-ТАСС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ученых, этот эффект достигается благодаря сочетанию содержащихся в пенном напитке биологически активных соединений (псевдоуридин, мелатонин и глицин-бетаин) с алкоголем. Известно, что спирт поглощает свободные радикалы, которые при облучении приводят к генетическим наруше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AFCC-2C01-4795-B6C8-74064BF7C71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6874-E71D-4661-B72B-FDCD2F116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2AA0-A01C-4FE9-BDAF-4BFF7013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B22D-548A-4B46-834E-002B7730F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0FB2-FE37-485E-8394-DFD973559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FC37-D4E6-4545-8D73-B8AF328AD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5C52-1DEC-4614-B279-945071BD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0DA1-E3FC-4DCE-8A2F-2D7B0964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E16F-B845-47DA-B7E9-3DC42E4C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4991-0C90-41DF-A143-D4427C30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A7A4-04D0-4B69-B969-DC1485C2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FA1B-89E8-4529-B598-3112AE1B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719B-5A02-4693-AD52-E2479E47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8E3E-DC43-44BA-96A5-BACA5534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E4C6-2239-4712-9ED2-30DBE200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AAF1-011E-467E-BB2A-842265EA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DA6C-8499-45F7-8785-F09D9B9B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09C1-3703-4379-B0C3-044C99081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CAC6-796F-40AF-8C00-E8A02A99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A4FA-8C80-4F26-933E-89825572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477C-7BD8-4252-BEEC-0E879241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F0A7-460C-4670-B81E-D7A0A03F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6741-8982-486A-9746-3FD114D0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5E18-DF6E-4147-B4B2-56BFC987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697F-2230-4116-A7EE-000912D9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3572-4D68-4B66-862F-ADE8AF86CA07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EBBC-2259-492B-B3B9-E159C5F72C7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BF46-00ED-4397-B41F-5C64BF7CE146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5BEC-5EAB-4DDC-9B70-73827245CB9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999800" y="3786120"/>
            <a:ext cx="66438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зентацию выполни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ница 8-1 клас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игранян Ан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390600" y="1371600"/>
            <a:ext cx="8289720" cy="3529080"/>
          </a:xfrm>
          <a:prstGeom prst="rect">
            <a:avLst/>
          </a:prstGeom>
          <a:ln w="0">
            <a:noFill/>
          </a:ln>
        </p:spPr>
      </p:pic>
      <p:pic>
        <p:nvPicPr>
          <p:cNvPr id="91" name="Kate Alexa - Help Me Find My Way.mp3" descr=""/>
          <p:cNvPicPr/>
          <p:nvPr/>
        </p:nvPicPr>
        <p:blipFill>
          <a:blip r:embed="rId2"/>
          <a:stretch/>
        </p:blipFill>
        <p:spPr>
          <a:xfrm>
            <a:off x="8286840" y="357120"/>
            <a:ext cx="215640" cy="2160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Красное вино препятствует воздействию радиоактивных излучений"/>
          <p:cNvPicPr/>
          <p:nvPr/>
        </p:nvPicPr>
        <p:blipFill>
          <a:blip r:embed="rId1"/>
          <a:stretch/>
        </p:blipFill>
        <p:spPr>
          <a:xfrm>
            <a:off x="428760" y="642960"/>
            <a:ext cx="2381040" cy="186696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3" descr=""/>
          <p:cNvPicPr/>
          <p:nvPr/>
        </p:nvPicPr>
        <p:blipFill>
          <a:blip r:embed="rId2"/>
          <a:stretch/>
        </p:blipFill>
        <p:spPr>
          <a:xfrm>
            <a:off x="3236760" y="182520"/>
            <a:ext cx="5724720" cy="56642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615960" y="2073240"/>
            <a:ext cx="8278920" cy="22860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33440" y="274680"/>
            <a:ext cx="8277120" cy="1163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78560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иоактивность - отнюдь не новое явление; новизна состоит лишь в том, как люди пытались ее использовать. И радиоактивность, и сопутствующие ей ионизирующие излучения существовали на Земле задолго до зарождения на ней жизни и присутствовали в космосе до возникновения самой Зем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33440" y="274680"/>
            <a:ext cx="8277120" cy="1146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6840" y="1600200"/>
            <a:ext cx="125748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142720" y="1356840"/>
            <a:ext cx="6543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ходясь в основном в почве, особенно в горных породах, естественные радиоизотопы обусловливают природный естественный фон радиоактивности, который не оказывает на человека вредного действия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попадании в атмосферу искусственных радиоизотопов в виде радиоактивных отходов атомных реакторов, промышленных предприятий и учреждений, работающих с радиоактивными веществами, а также в результате испытаний атомного оружия природный радиоактивный фон может повыситься. Образующееся при взрывах радиоактивное облако, распространяясь вокруг Земного шара, будет служить на своем пути источником радиоактивного загрязнения воздуха, водоемов и почвы за счет выпадения радиоактивных осадков. Эти осадки, способны накапливаться в растениях, рыбах, поступать в молоко животных и стать потенциально опасными для человека при употреблении пищевых продуктов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2" descr="радиоактивные и космические излучения и их влияние на человека"/>
          <p:cNvPicPr/>
          <p:nvPr/>
        </p:nvPicPr>
        <p:blipFill>
          <a:blip r:embed="rId2"/>
          <a:stretch/>
        </p:blipFill>
        <p:spPr>
          <a:xfrm>
            <a:off x="0" y="1357200"/>
            <a:ext cx="2500200" cy="19670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7200" y="16524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28760" y="135684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ти выбросы делят на газовые и аэрозольные, выбрасываемые в атмосферу через трубу, и жидкие сбросы, в которых вредные примеси присутствуют в виде растворов или мелкодисперсных смесей, попадающие в водоемы. Включаясь в многообразные движения атмосферы, поверхностных и подземных потоков, радиоактивные и токсические вещества распространяются в окружающей среде, попадают в растения, в организмы животных и человека. На рисунке показаны воздушные, поверхностные и подземные пути миграции вредных веществ в окружающей среде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" descr="C:\Users\Анна\Pictures\384_2.jpg"/>
          <p:cNvPicPr/>
          <p:nvPr/>
        </p:nvPicPr>
        <p:blipFill>
          <a:blip r:embed="rId2"/>
          <a:stretch/>
        </p:blipFill>
        <p:spPr>
          <a:xfrm>
            <a:off x="1928880" y="4071960"/>
            <a:ext cx="5079960" cy="25398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33440" y="274680"/>
            <a:ext cx="8277120" cy="1163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-это способность некоторых атомных ядер самопроизвольно превращаться в другие ядра, испуская при этом различные частицы: Всякий самопроизвольный радиоактивный распад экзотермичен, то есть происходит с выделением тепл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http://webcomclub.narod.ru/promo/izl.jpg"/>
          <p:cNvPicPr/>
          <p:nvPr/>
        </p:nvPicPr>
        <p:blipFill>
          <a:blip r:embed="rId1"/>
          <a:stretch/>
        </p:blipFill>
        <p:spPr>
          <a:xfrm>
            <a:off x="428760" y="214200"/>
            <a:ext cx="5572080" cy="319104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2"/>
          <p:cNvSpPr/>
          <p:nvPr/>
        </p:nvSpPr>
        <p:spPr>
          <a:xfrm>
            <a:off x="6215040" y="285840"/>
            <a:ext cx="2571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3cddd"/>
                </a:solidFill>
                <a:latin typeface="Times New Roman"/>
              </a:rPr>
              <a:t>АЛЬФА-ЧАСТИЦА (a-частиц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ядро атома гелия. Содержит два протона и два нейтрона. Испусканием a-частиц сопровождается одно из радиоактивных превращений (альфа-распад ядер) некоторых химических элемен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500040" y="3770280"/>
            <a:ext cx="3429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3cddd"/>
                </a:solidFill>
                <a:latin typeface="Times New Roman"/>
              </a:rPr>
              <a:t>БЕТА-ЧАСТ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ускаемый при бета-распаде электрон. Поток бета-частиц является одним из видов радиоактивных излучений с проникающей способностью, большей, чем у альфа-частиц, но меньшей, чем у гамма-излуч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5"/>
          <p:cNvSpPr/>
          <p:nvPr/>
        </p:nvSpPr>
        <p:spPr>
          <a:xfrm>
            <a:off x="4929120" y="3786120"/>
            <a:ext cx="36734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3cddd"/>
                </a:solidFill>
                <a:latin typeface="Times New Roman"/>
              </a:rPr>
              <a:t>ГАММА-ИЗЛУЧЕНИЕ (гамма-кванты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оротковолновое электромагнитное излучение с длиной волны меньше 2×10–10 м. Из-за малой длины волны волновые свойства гамма-излучения проявляются слабо, и на первый план выступают корпускулярные свойства, в связи с чем его представляют в виде потока гамма-квантов (фотонов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1805040" y="609480"/>
            <a:ext cx="5510160" cy="530280"/>
          </a:xfrm>
          <a:prstGeom prst="rect">
            <a:avLst/>
          </a:prstGeom>
          <a:ln w="0">
            <a:noFill/>
          </a:ln>
        </p:spPr>
      </p:pic>
      <p:grpSp>
        <p:nvGrpSpPr>
          <p:cNvPr id="114" name="Рисунок 2"/>
          <p:cNvGrpSpPr/>
          <p:nvPr/>
        </p:nvGrpSpPr>
        <p:grpSpPr>
          <a:xfrm>
            <a:off x="3651120" y="5108400"/>
            <a:ext cx="3097440" cy="1603440"/>
            <a:chOff x="3651120" y="5108400"/>
            <a:chExt cx="3097440" cy="1603440"/>
          </a:xfrm>
        </p:grpSpPr>
        <p:pic>
          <p:nvPicPr>
            <p:cNvPr id="115" name="Рисунок 2" descr=""/>
            <p:cNvPicPr/>
            <p:nvPr/>
          </p:nvPicPr>
          <p:blipFill>
            <a:blip r:embed="rId2"/>
            <a:stretch/>
          </p:blipFill>
          <p:spPr>
            <a:xfrm>
              <a:off x="3651120" y="5108400"/>
              <a:ext cx="3097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714840" y="5143680"/>
              <a:ext cx="2643120" cy="11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800" y="1166400"/>
            <a:ext cx="5486400" cy="1833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26 апреля 1986 года жизнь миллионов белорусов, украинцев и россиян круто изменилась. Эта дата разделила нашу историю на "до" и "после". 22 года назад на четвертом блоке Чернобыльской АЭС произошла крупнейшая ядерная авария в мир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Прямоугольник 4"/>
          <p:cNvSpPr/>
          <p:nvPr/>
        </p:nvSpPr>
        <p:spPr>
          <a:xfrm>
            <a:off x="1857240" y="3357720"/>
            <a:ext cx="564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 отчете организаций ООН, вышедшем в 2005 году, утверждается, что Чернобыльская катастрофа унесла и еще унесет приблизительно 4000 жизн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1785960" y="2286000"/>
            <a:ext cx="56437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26 апреля 1986 года произошел выброс активности в масштабах от 50 до 250 миллионов Кюри. Высвободившийся в Чернобыле радиоактивный потенциал соответствует по меньшей мере 100 атомным бомбам. </a:t>
            </a:r>
            <a:br>
              <a:rPr sz="10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Что нужно знать о радиации и о Чернобыльской трагедии?"/>
          <p:cNvPicPr/>
          <p:nvPr/>
        </p:nvPicPr>
        <p:blipFill>
          <a:blip r:embed="rId3"/>
          <a:stretch/>
        </p:blipFill>
        <p:spPr>
          <a:xfrm>
            <a:off x="2143080" y="4314960"/>
            <a:ext cx="4762440" cy="25430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1"/>
          <a:stretch/>
        </p:blipFill>
        <p:spPr>
          <a:xfrm>
            <a:off x="1828800" y="237960"/>
            <a:ext cx="5486400" cy="1425600"/>
          </a:xfrm>
          <a:prstGeom prst="rect">
            <a:avLst/>
          </a:prstGeom>
          <a:ln w="0">
            <a:noFill/>
          </a:ln>
        </p:spPr>
      </p:pic>
      <p:grpSp>
        <p:nvGrpSpPr>
          <p:cNvPr id="123" name="Рисунок 2"/>
          <p:cNvGrpSpPr/>
          <p:nvPr/>
        </p:nvGrpSpPr>
        <p:grpSpPr>
          <a:xfrm>
            <a:off x="2438280" y="5248440"/>
            <a:ext cx="4449960" cy="939600"/>
            <a:chOff x="2438280" y="5248440"/>
            <a:chExt cx="4449960" cy="939600"/>
          </a:xfrm>
        </p:grpSpPr>
        <p:pic>
          <p:nvPicPr>
            <p:cNvPr id="124" name="Рисунок 2" descr=""/>
            <p:cNvPicPr/>
            <p:nvPr/>
          </p:nvPicPr>
          <p:blipFill>
            <a:blip r:embed="rId2"/>
            <a:stretch/>
          </p:blipFill>
          <p:spPr>
            <a:xfrm>
              <a:off x="2438280" y="5248440"/>
              <a:ext cx="444996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500200" y="5286240"/>
              <a:ext cx="40006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828800" y="1928880"/>
            <a:ext cx="5486400" cy="27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сновными причинами попадания радионуклидов в пищу сегодня являются высокое содержание радионуклидов в грибах, ягодах, рыбе и дичи, а также радиоактивное загрязнение травы и сена, которыми питаются коровы, дающие молоко. Загрязнение мяса и молока можно сократить, используя чистые корма и кормовые добавки, а также ограничив время выпаса скота. Для продуктов питания из государственного сектора, а также продукции, продаваемой на рынках, действуют нормы максимального содержания радионуклидов.</a:t>
            </a:r>
            <a:br>
              <a:rPr sz="10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2" descr="Что нужно знать о радиации и о Чернобыльской трагедии?"/>
          <p:cNvPicPr/>
          <p:nvPr/>
        </p:nvPicPr>
        <p:blipFill>
          <a:blip r:embed="rId3"/>
          <a:stretch/>
        </p:blipFill>
        <p:spPr>
          <a:xfrm>
            <a:off x="2143080" y="4429080"/>
            <a:ext cx="4762440" cy="21049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433440" y="268200"/>
            <a:ext cx="8277120" cy="1163880"/>
          </a:xfrm>
          <a:prstGeom prst="rect">
            <a:avLst/>
          </a:prstGeom>
          <a:ln w="0">
            <a:noFill/>
          </a:ln>
        </p:spPr>
      </p:pic>
      <p:pic>
        <p:nvPicPr>
          <p:cNvPr id="130" name="Содержимое 5" descr="93e4d3b3-5fbd-4167-ba1f-a72946593df1.jpg"/>
          <p:cNvPicPr/>
          <p:nvPr/>
        </p:nvPicPr>
        <p:blipFill>
          <a:blip r:embed="rId2"/>
          <a:stretch/>
        </p:blipFill>
        <p:spPr>
          <a:xfrm>
            <a:off x="642960" y="178596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2785680" y="1600200"/>
            <a:ext cx="59007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иво, как и более крепкие алкогольные напитки, способно защитить организм от радиоактивного излучения. Это экспериментально доказали японские ученые из Института лучевой медицины. Результаты их исследований опубликованы в пятницу в токийской печати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наружено, что одной полулитровой бутылки светлого пива достаточно, чтобы на 34% снизить число хромосомных поврежденный, которые возникают после воздействия рентгеновских лучей или тяжелых частиц, например, ионов водорода, сообщает ИТАР-ТАСС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 мнению ученых, этот эффект достигается благодаря сочетанию содержащихся в пенном напитке биологически активных соединений (псевдоуридин, мелатонин и глицин-бетаин) с алкоголем. Известно, что спирт поглощает свободные радикалы, которые при облучении приводят к генетическим нарушения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6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5:09:51Z</dcterms:created>
  <dc:creator>Анна</dc:creator>
  <dc:description/>
  <dc:language>en-US</dc:language>
  <cp:lastModifiedBy>LEGION</cp:lastModifiedBy>
  <dcterms:modified xsi:type="dcterms:W3CDTF">2014-11-24T13:18:47Z</dcterms:modified>
  <cp:revision>41</cp:revision>
  <dc:subject/>
  <dc:title>Влияние радиоактивного излучения на живые организмы</dc:title>
</cp:coreProperties>
</file>